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2.png" ContentType="image/png"/>
  <Override PartName="/ppt/media/image47.png" ContentType="image/png"/>
  <Override PartName="/ppt/media/image46.gif" ContentType="image/gif"/>
  <Override PartName="/ppt/media/image45.png" ContentType="image/png"/>
  <Override PartName="/ppt/media/image42.gif" ContentType="image/gif"/>
  <Override PartName="/ppt/media/image33.wmf" ContentType="image/x-wmf"/>
  <Override PartName="/ppt/media/image2.jpeg" ContentType="image/jpeg"/>
  <Override PartName="/ppt/media/image1.gif" ContentType="image/gif"/>
  <Override PartName="/ppt/media/image21.jpeg" ContentType="image/jpeg"/>
  <Override PartName="/ppt/media/image36.gif" ContentType="image/gif"/>
  <Override PartName="/ppt/media/image53.png" ContentType="image/png"/>
  <Override PartName="/ppt/media/image3.wmf" ContentType="image/x-wmf"/>
  <Override PartName="/ppt/media/image55.gif" ContentType="image/gif"/>
  <Override PartName="/ppt/media/image13.jpeg" ContentType="image/jpeg"/>
  <Override PartName="/ppt/media/image20.gif" ContentType="image/gif"/>
  <Override PartName="/ppt/media/chimes.wav" ContentType="audio/x-wav"/>
  <Override PartName="/ppt/media/image17.jpeg" ContentType="image/jpeg"/>
  <Override PartName="/ppt/media/image49.gif" ContentType="image/gif"/>
  <Override PartName="/ppt/media/image58.gif" ContentType="image/gif"/>
  <Override PartName="/ppt/media/image10.jpeg" ContentType="image/jpeg"/>
  <Override PartName="/ppt/media/image57.jpeg" ContentType="image/jpeg"/>
  <Override PartName="/ppt/media/image54.gif" ContentType="image/gif"/>
  <Override PartName="/ppt/media/image44.wmf" ContentType="image/x-wmf"/>
  <Override PartName="/ppt/media/image11.gif" ContentType="image/gif"/>
  <Override PartName="/ppt/media/image48.gif" ContentType="image/gif"/>
  <Override PartName="/ppt/media/image56.gif" ContentType="image/gif"/>
  <Override PartName="/ppt/media/image23.wmf" ContentType="image/x-wmf"/>
  <Override PartName="/ppt/media/image27.gif" ContentType="image/gif"/>
  <Override PartName="/ppt/media/image31.gif" ContentType="image/gif"/>
  <Override PartName="/ppt/media/j0074960.wav" ContentType="audio/x-wav"/>
  <Override PartName="/ppt/media/image24.wmf" ContentType="image/x-wmf"/>
  <Override PartName="/ppt/media/image28.gif" ContentType="image/gif"/>
  <Override PartName="/ppt/media/image19.wmf" ContentType="image/x-wmf"/>
  <Override PartName="/ppt/media/image51.png" ContentType="image/png"/>
  <Override PartName="/ppt/media/image50.png" ContentType="image/png"/>
  <Override PartName="/ppt/media/type.wav" ContentType="audio/x-wav"/>
  <Override PartName="/ppt/media/image9.wmf" ContentType="image/x-wmf"/>
  <Override PartName="/ppt/media/image14.gif" ContentType="image/gif"/>
  <Override PartName="/ppt/media/image5.png" ContentType="image/png"/>
  <Override PartName="/ppt/media/image37.png" ContentType="image/png"/>
  <Override PartName="/ppt/media/image15.gif" ContentType="image/gif"/>
  <Override PartName="/ppt/media/image40.wmf" ContentType="image/x-wmf"/>
  <Override PartName="/ppt/media/camera.wav" ContentType="audio/x-wav"/>
  <Override PartName="/ppt/media/image12.jpeg" ContentType="image/jpeg"/>
  <Override PartName="/ppt/media/image8.wmf" ContentType="image/x-wmf"/>
  <Override PartName="/ppt/media/image22.gif" ContentType="image/gif"/>
  <Override PartName="/ppt/media/image25.png" ContentType="image/png"/>
  <Override PartName="/ppt/media/image35.png" ContentType="image/png"/>
  <Override PartName="/ppt/media/image32.gif" ContentType="image/gif"/>
  <Override PartName="/ppt/media/image26.wmf" ContentType="image/x-wmf"/>
  <Override PartName="/ppt/media/image29.wmf" ContentType="image/x-wmf"/>
  <Override PartName="/ppt/media/image30.gif" ContentType="image/gif"/>
  <Override PartName="/ppt/media/image34.wmf" ContentType="image/x-wmf"/>
  <Override PartName="/ppt/media/projctor.wav" ContentType="audio/x-wav"/>
  <Override PartName="/ppt/media/image38.jpeg" ContentType="image/jpeg"/>
  <Override PartName="/ppt/media/image39.gif" ContentType="image/gif"/>
  <Override PartName="/ppt/media/whoosh.wav" ContentType="audio/x-wav"/>
  <Override PartName="/ppt/media/image16.gif" ContentType="image/gif"/>
  <Override PartName="/ppt/media/image7.png" ContentType="image/png"/>
  <Override PartName="/ppt/media/image4.gif" ContentType="image/gif"/>
  <Override PartName="/ppt/media/image41.wmf" ContentType="image/x-wmf"/>
  <Override PartName="/ppt/media/image6.gif" ContentType="image/gif"/>
  <Override PartName="/ppt/media/image18.gif" ContentType="image/gif"/>
  <Override PartName="/ppt/media/image4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4A76-5FF0-494B-9B2A-B58F74E70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5DAF-3590-464D-A1C5-20957D466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ook a sip of coff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A5AC-DED5-4978-BA6A-D633357A0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ddenly, a strange sound was he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622F-02D4-4977-8D18-06D5AC64E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n was sawing w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BFBF-47C1-44AC-8C89-C17558F73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 liked sewing on her sewing mac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0BF0-2378-41FE-AC4B-31821C3B9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is September th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158C-B65F-404F-B7B7-ABCD2E965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ndy drew a circle with her penc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D638-EACF-46F7-BDA9-1AB245F00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wn at the circus was s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5C2A-8A15-45B7-AB6F-566CD3E2C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 the plumber fixed the sink for sixty dollars and seventy seven c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3990-AC79-44A9-A401-33F880AFB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rah said that she was se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4845-0AA4-4A9A-8CD3-8FB4808E0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 wore her sister’s socks since she saw them sitting by her d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B3BA-9A91-4A65-9385-E8FB54A30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ndy saw the sun in the sky over the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A470-E91A-41AB-86F0-6D588AD9E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mar likes surfing on his new surf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1915-90C6-4B17-B750-07541E635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my spit out a s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62F9-91D0-47EB-B8E4-DAD10D274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 was sad because he lost his s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6BFE-9CC2-41CB-9819-D0F7D67C7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h the moose was sick on Satur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5F5B-9567-4FBD-B6C2-53A2FA13E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was sleeping the the sand by the light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D57E-950F-4159-9C6B-504D1684A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sters in the choir sang beautiful so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AC99-BFCA-4CFE-81EE-AD82FCBCA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y and his sister heard the sounds of the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34B8-74D2-4D1A-B367-F777B2D65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h saw several spies in his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4D0F-B7B8-40E3-8DE0-EA9097764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 liked to play soccer on Sun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B02-B463-4EB2-A04E-45E06C8D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D07-62D5-4FAD-A5E3-CA4E3A2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895-4FA6-4051-B7B4-86C00486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003-B069-4B83-87EC-D61D56AC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532-15BB-438B-8545-F880FD76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816-8666-4E54-87C7-B16B2A93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EEA-1B5E-46FC-8BC2-9AA6805F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892-9279-460B-8263-FC4F3258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770-47BF-46AA-88FA-D5EBF736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16A-E971-49B6-8ECA-852A6054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11F-9174-4073-BD82-ABD4EB66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09C-5C2F-4321-A540-34E015CC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10BD-4687-4A9F-8D52-C0EE4902B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image" Target="../media/image7.png"/><Relationship Id="rId4" Type="http://schemas.openxmlformats.org/officeDocument/2006/relationships/image" Target="../media/image24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7.png"/><Relationship Id="rId3" Type="http://schemas.openxmlformats.org/officeDocument/2006/relationships/image" Target="../media/image31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gif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audio" Target="../media/chimes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gi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audio" Target="../media/chimes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0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png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7.png"/><Relationship Id="rId3" Type="http://schemas.openxmlformats.org/officeDocument/2006/relationships/hyperlink" Target="http://rds.yahoo.com/S=96062883/K=seeds/v=2/l=IVI/*-http://www.earlylight.com/cards/postcards/seeds.jpg" TargetMode="External"/><Relationship Id="rId4" Type="http://schemas.openxmlformats.org/officeDocument/2006/relationships/image" Target="../media/image57.jpeg"/><Relationship Id="rId5" Type="http://schemas.openxmlformats.org/officeDocument/2006/relationships/image" Target="../media/image58.gif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7.png"/><Relationship Id="rId3" Type="http://schemas.openxmlformats.org/officeDocument/2006/relationships/image" Target="../media/image1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audio" Target="../media/j0074960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1027"/>
          <p:cNvSpPr txBox="1"/>
          <p:nvPr/>
        </p:nvSpPr>
        <p:spPr>
          <a:xfrm>
            <a:off x="2514600" y="1371600"/>
            <a:ext cx="44481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-initial word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3430080" y="510552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anne Guic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j0236254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380880"/>
            <a:ext cx="3505320" cy="3189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457200" y="48006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zy took a sip of coffee while she was sitting on her soft sof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HH00984_"/>
          <p:cNvPicPr/>
          <p:nvPr/>
        </p:nvPicPr>
        <p:blipFill>
          <a:blip r:embed="rId2"/>
          <a:stretch/>
        </p:blipFill>
        <p:spPr>
          <a:xfrm>
            <a:off x="4267080" y="4149720"/>
            <a:ext cx="4724640" cy="270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46483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PE00476_"/>
          <p:cNvPicPr/>
          <p:nvPr/>
        </p:nvPicPr>
        <p:blipFill>
          <a:blip r:embed="rId4"/>
          <a:stretch/>
        </p:blipFill>
        <p:spPr>
          <a:xfrm>
            <a:off x="4876920" y="3124080"/>
            <a:ext cx="1866960" cy="2438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j0130865"/>
          <p:cNvPicPr/>
          <p:nvPr/>
        </p:nvPicPr>
        <p:blipFill>
          <a:blip r:embed="rId2"/>
          <a:stretch/>
        </p:blipFill>
        <p:spPr>
          <a:xfrm>
            <a:off x="762120" y="1523880"/>
            <a:ext cx="2568600" cy="4211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4380480" y="44956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ddenly, a strange sound was he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77724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590920" y="4648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j0236543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352680" y="2819520"/>
            <a:ext cx="2335320" cy="2468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514600" y="55627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. Santos was sawing wood since the board did not f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j0336594"/>
          <p:cNvPicPr/>
          <p:nvPr/>
        </p:nvPicPr>
        <p:blipFill>
          <a:blip r:embed="rId3"/>
          <a:stretch/>
        </p:blipFill>
        <p:spPr>
          <a:xfrm>
            <a:off x="1143000" y="228600"/>
            <a:ext cx="208908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j0215545"/>
          <p:cNvPicPr/>
          <p:nvPr/>
        </p:nvPicPr>
        <p:blipFill>
          <a:blip r:embed="rId4"/>
          <a:stretch/>
        </p:blipFill>
        <p:spPr>
          <a:xfrm>
            <a:off x="5791320" y="380880"/>
            <a:ext cx="2392200" cy="1649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j0296911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495680" y="2895480"/>
            <a:ext cx="2805120" cy="237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20574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2971800" y="53341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ly liked sewing on her sewing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j0336678"/>
          <p:cNvPicPr/>
          <p:nvPr/>
        </p:nvPicPr>
        <p:blipFill>
          <a:blip r:embed="rId3"/>
          <a:stretch/>
        </p:blipFill>
        <p:spPr>
          <a:xfrm>
            <a:off x="609480" y="762120"/>
            <a:ext cx="3029040" cy="2749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9880" y="15235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AG00231_"/>
          <p:cNvPicPr/>
          <p:nvPr/>
        </p:nvPicPr>
        <p:blipFill>
          <a:blip r:embed="rId1"/>
          <a:stretch/>
        </p:blipFill>
        <p:spPr>
          <a:xfrm>
            <a:off x="5257800" y="3886200"/>
            <a:ext cx="2666880" cy="2236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83808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is Saturday, September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j0323609"/>
          <p:cNvPicPr/>
          <p:nvPr/>
        </p:nvPicPr>
        <p:blipFill>
          <a:blip r:embed="rId2"/>
          <a:stretch/>
        </p:blipFill>
        <p:spPr>
          <a:xfrm>
            <a:off x="380880" y="304920"/>
            <a:ext cx="3459240" cy="3463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j0212043"/>
          <p:cNvPicPr/>
          <p:nvPr/>
        </p:nvPicPr>
        <p:blipFill>
          <a:blip r:embed="rId3"/>
          <a:stretch/>
        </p:blipFill>
        <p:spPr>
          <a:xfrm>
            <a:off x="6629400" y="3733920"/>
            <a:ext cx="1812960" cy="1535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AG00217_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876920" y="2438280"/>
            <a:ext cx="3205080" cy="2833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1295280" y="5486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dy drew a circle with her penc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8"/>
          <p:cNvGraphicFramePr/>
          <p:nvPr/>
        </p:nvGraphicFramePr>
        <p:xfrm>
          <a:off x="762120" y="380880"/>
          <a:ext cx="2603520" cy="2667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80880"/>
                    <a:ext cx="26035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6" name="chimes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3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j0286824"/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2286000" y="228600"/>
            <a:ext cx="2192400" cy="2971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609480" y="5867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owns at the circus were si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BL00527_"/>
          <p:cNvPicPr/>
          <p:nvPr/>
        </p:nvPicPr>
        <p:blipFill>
          <a:blip r:embed="rId3"/>
          <a:stretch/>
        </p:blipFill>
        <p:spPr>
          <a:xfrm>
            <a:off x="5562720" y="3276720"/>
            <a:ext cx="3357360" cy="3468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0136563"/>
          <p:cNvPicPr/>
          <p:nvPr/>
        </p:nvPicPr>
        <p:blipFill>
          <a:blip r:embed="rId4"/>
          <a:stretch/>
        </p:blipFill>
        <p:spPr>
          <a:xfrm>
            <a:off x="304920" y="3733920"/>
            <a:ext cx="2438280" cy="1941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j0303324"/>
          <p:cNvPicPr/>
          <p:nvPr/>
        </p:nvPicPr>
        <p:blipFill>
          <a:blip r:embed="rId5"/>
          <a:stretch/>
        </p:blipFill>
        <p:spPr>
          <a:xfrm>
            <a:off x="5410080" y="4800600"/>
            <a:ext cx="622440" cy="1768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6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7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8" name="chimes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j0151987"/>
          <p:cNvPicPr/>
          <p:nvPr/>
        </p:nvPicPr>
        <p:blipFill>
          <a:blip r:embed="rId1"/>
          <a:stretch/>
        </p:blipFill>
        <p:spPr>
          <a:xfrm>
            <a:off x="3200400" y="2590920"/>
            <a:ext cx="3579840" cy="29210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57200" y="579132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 the plumber fixed the sink for sixty dollars and seventy seven c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HH01599_"/>
          <p:cNvPicPr/>
          <p:nvPr/>
        </p:nvPicPr>
        <p:blipFill>
          <a:blip r:embed="rId2"/>
          <a:stretch/>
        </p:blipFill>
        <p:spPr>
          <a:xfrm>
            <a:off x="838080" y="152280"/>
            <a:ext cx="2981520" cy="274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Object 9"/>
          <p:cNvGraphicFramePr/>
          <p:nvPr/>
        </p:nvGraphicFramePr>
        <p:xfrm>
          <a:off x="7010280" y="5105520"/>
          <a:ext cx="11430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5105520"/>
                    <a:ext cx="1143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BD18833_.wav" descr=""/>
          <p:cNvPicPr/>
          <p:nvPr/>
        </p:nvPicPr>
        <p:blipFill>
          <a:blip r:embed="rId5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himes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j0178303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5638680" y="30492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1600200" y="54864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h said that she will be seven on December sixtee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838080" y="380880"/>
          <a:ext cx="2600280" cy="201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80880"/>
                    <a:ext cx="260028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Picture 6" descr="j0336569"/>
          <p:cNvPicPr/>
          <p:nvPr/>
        </p:nvPicPr>
        <p:blipFill>
          <a:blip r:embed="rId4"/>
          <a:stretch/>
        </p:blipFill>
        <p:spPr>
          <a:xfrm>
            <a:off x="5715000" y="3429000"/>
            <a:ext cx="1211400" cy="1157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AG00245_"/>
          <p:cNvPicPr/>
          <p:nvPr/>
        </p:nvPicPr>
        <p:blipFill>
          <a:blip r:embed="rId5"/>
          <a:stretch/>
        </p:blipFill>
        <p:spPr>
          <a:xfrm>
            <a:off x="5105520" y="4191120"/>
            <a:ext cx="1268280" cy="106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Object 8"/>
          <p:cNvGraphicFramePr/>
          <p:nvPr/>
        </p:nvGraphicFramePr>
        <p:xfrm>
          <a:off x="3279600" y="3138480"/>
          <a:ext cx="1506600" cy="204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9600" y="3138480"/>
                    <a:ext cx="150660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8" name="chimes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447920" y="5257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ly wore her sister’s socks since she saw them by her 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10"/>
          <p:cNvGraphicFramePr/>
          <p:nvPr/>
        </p:nvGraphicFramePr>
        <p:xfrm>
          <a:off x="4191120" y="2209680"/>
          <a:ext cx="138888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209680"/>
                    <a:ext cx="138888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3"/>
          <p:cNvGraphicFramePr/>
          <p:nvPr/>
        </p:nvGraphicFramePr>
        <p:xfrm>
          <a:off x="1447920" y="380880"/>
          <a:ext cx="217008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80880"/>
                    <a:ext cx="21700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4"/>
          <p:cNvGraphicFramePr/>
          <p:nvPr/>
        </p:nvGraphicFramePr>
        <p:xfrm>
          <a:off x="4800600" y="3720960"/>
          <a:ext cx="1371600" cy="11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720960"/>
                    <a:ext cx="137160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7" name="chimes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j0173957"/>
          <p:cNvPicPr/>
          <p:nvPr/>
        </p:nvPicPr>
        <p:blipFill>
          <a:blip r:embed="rId1"/>
          <a:stretch/>
        </p:blipFill>
        <p:spPr>
          <a:xfrm>
            <a:off x="6248520" y="2819520"/>
            <a:ext cx="2355840" cy="3733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419720" y="3733920"/>
            <a:ext cx="161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dy saw the sun in the sky over the 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j0182676"/>
          <p:cNvPicPr/>
          <p:nvPr/>
        </p:nvPicPr>
        <p:blipFill>
          <a:blip r:embed="rId2"/>
          <a:stretch/>
        </p:blipFill>
        <p:spPr>
          <a:xfrm>
            <a:off x="457200" y="13716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j0083171"/>
          <p:cNvPicPr/>
          <p:nvPr/>
        </p:nvPicPr>
        <p:blipFill>
          <a:blip r:embed="rId3"/>
          <a:stretch/>
        </p:blipFill>
        <p:spPr>
          <a:xfrm>
            <a:off x="5257800" y="152280"/>
            <a:ext cx="1824120" cy="17067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38480" y="121932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533520" y="40384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mar likes surfing on his new surf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j0283966"/>
          <p:cNvPicPr/>
          <p:nvPr/>
        </p:nvPicPr>
        <p:blipFill>
          <a:blip r:embed="rId2"/>
          <a:stretch/>
        </p:blipFill>
        <p:spPr>
          <a:xfrm>
            <a:off x="4419720" y="3429000"/>
            <a:ext cx="2998800" cy="269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j0285255"/>
          <p:cNvPicPr/>
          <p:nvPr/>
        </p:nvPicPr>
        <p:blipFill>
          <a:blip r:embed="rId3"/>
          <a:stretch/>
        </p:blipFill>
        <p:spPr>
          <a:xfrm>
            <a:off x="1981080" y="304920"/>
            <a:ext cx="2987640" cy="2662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j0283673"/>
          <p:cNvPicPr/>
          <p:nvPr/>
        </p:nvPicPr>
        <p:blipFill>
          <a:blip r:embed="rId1"/>
          <a:stretch/>
        </p:blipFill>
        <p:spPr>
          <a:xfrm>
            <a:off x="4952880" y="2514600"/>
            <a:ext cx="2783160" cy="4191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1219320" y="586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457200" y="44956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my spit out the seeds so he wouldn’t swallow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seed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609480"/>
            <a:ext cx="1730520" cy="117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AG00607_"/>
          <p:cNvPicPr/>
          <p:nvPr/>
        </p:nvPicPr>
        <p:blipFill>
          <a:blip r:embed="rId5"/>
          <a:stretch/>
        </p:blipFill>
        <p:spPr>
          <a:xfrm>
            <a:off x="533520" y="1066680"/>
            <a:ext cx="2735280" cy="232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"/>
          <p:cNvPicPr/>
          <p:nvPr/>
        </p:nvPicPr>
        <p:blipFill>
          <a:blip r:embed="rId6"/>
          <a:stretch/>
        </p:blipFill>
        <p:spPr>
          <a:xfrm>
            <a:off x="12952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7" name="chimes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3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j0282742"/>
          <p:cNvPicPr/>
          <p:nvPr/>
        </p:nvPicPr>
        <p:blipFill>
          <a:blip r:embed="rId1"/>
          <a:stretch/>
        </p:blipFill>
        <p:spPr>
          <a:xfrm>
            <a:off x="5410080" y="152280"/>
            <a:ext cx="3353040" cy="3353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429000" y="4038480"/>
            <a:ext cx="3200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 was sad because he lost his soc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11"/>
          <p:cNvGraphicFramePr/>
          <p:nvPr/>
        </p:nvGraphicFramePr>
        <p:xfrm>
          <a:off x="6781680" y="3657600"/>
          <a:ext cx="168768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3657600"/>
                    <a:ext cx="1687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12" descr="j0282741"/>
          <p:cNvPicPr/>
          <p:nvPr/>
        </p:nvPicPr>
        <p:blipFill>
          <a:blip r:embed="rId4"/>
          <a:stretch/>
        </p:blipFill>
        <p:spPr>
          <a:xfrm>
            <a:off x="838080" y="2286000"/>
            <a:ext cx="2301840" cy="2301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5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Object 15"/>
          <p:cNvGraphicFramePr/>
          <p:nvPr/>
        </p:nvGraphicFramePr>
        <p:xfrm>
          <a:off x="3352680" y="1828800"/>
          <a:ext cx="1231920" cy="2057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1828800"/>
                    <a:ext cx="12319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8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136807"/>
          <p:cNvPicPr/>
          <p:nvPr/>
        </p:nvPicPr>
        <p:blipFill>
          <a:blip r:embed="rId1"/>
          <a:stretch/>
        </p:blipFill>
        <p:spPr>
          <a:xfrm>
            <a:off x="5562720" y="1676520"/>
            <a:ext cx="305892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2743200" y="3124080"/>
            <a:ext cx="2133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h the moose was sick on Saturd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j0136719"/>
          <p:cNvPicPr/>
          <p:nvPr/>
        </p:nvPicPr>
        <p:blipFill>
          <a:blip r:embed="rId2"/>
          <a:stretch/>
        </p:blipFill>
        <p:spPr>
          <a:xfrm>
            <a:off x="609480" y="0"/>
            <a:ext cx="2113200" cy="2882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3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j0236442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886200" y="251460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33520" y="54864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 was sleeping in the sand by the light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j0177932"/>
          <p:cNvPicPr/>
          <p:nvPr/>
        </p:nvPicPr>
        <p:blipFill>
          <a:blip r:embed="rId3"/>
          <a:stretch/>
        </p:blipFill>
        <p:spPr>
          <a:xfrm>
            <a:off x="304920" y="3808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313769"/>
          <p:cNvPicPr/>
          <p:nvPr/>
        </p:nvPicPr>
        <p:blipFill>
          <a:blip r:embed="rId4"/>
          <a:stretch/>
        </p:blipFill>
        <p:spPr>
          <a:xfrm>
            <a:off x="6934320" y="228600"/>
            <a:ext cx="1717560" cy="2590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5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354558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47920" y="2133720"/>
            <a:ext cx="3485880" cy="3098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28195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821960" y="548640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sters in the choir were singing beautiful s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j0285288"/>
          <p:cNvPicPr/>
          <p:nvPr/>
        </p:nvPicPr>
        <p:blipFill>
          <a:blip r:embed="rId3"/>
          <a:stretch/>
        </p:blipFill>
        <p:spPr>
          <a:xfrm>
            <a:off x="6019920" y="304920"/>
            <a:ext cx="250488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j0336921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828800" y="3429000"/>
            <a:ext cx="3894120" cy="2952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533520" y="2286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dy and his sister heard the sounds of the 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j0182741"/>
          <p:cNvPicPr/>
          <p:nvPr/>
        </p:nvPicPr>
        <p:blipFill>
          <a:blip r:embed="rId2"/>
          <a:stretch/>
        </p:blipFill>
        <p:spPr>
          <a:xfrm>
            <a:off x="6095880" y="0"/>
            <a:ext cx="2962440" cy="4419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79246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j023475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38080" y="2286000"/>
            <a:ext cx="4230720" cy="299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2057400" y="5715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h could see several spies in his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j0200255"/>
          <p:cNvPicPr/>
          <p:nvPr/>
        </p:nvPicPr>
        <p:blipFill>
          <a:blip r:embed="rId2"/>
          <a:stretch/>
        </p:blipFill>
        <p:spPr>
          <a:xfrm>
            <a:off x="5562720" y="228600"/>
            <a:ext cx="2819160" cy="2489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75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00cc00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9520" y="6091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j0282777"/>
          <p:cNvPicPr/>
          <p:nvPr/>
        </p:nvPicPr>
        <p:blipFill>
          <a:blip r:embed="rId1"/>
          <a:stretch/>
        </p:blipFill>
        <p:spPr>
          <a:xfrm>
            <a:off x="4343400" y="3200400"/>
            <a:ext cx="3660840" cy="3497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914400" y="4038480"/>
            <a:ext cx="31240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 liked to play soccer on Sun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-30492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j0384928"/>
          <p:cNvPicPr/>
          <p:nvPr/>
        </p:nvPicPr>
        <p:blipFill>
          <a:blip r:embed="rId2"/>
          <a:stretch/>
        </p:blipFill>
        <p:spPr>
          <a:xfrm>
            <a:off x="228600" y="685800"/>
            <a:ext cx="4724280" cy="310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96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3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7:12:08Z</dcterms:created>
  <dc:creator>Home Office Computer</dc:creator>
  <dc:description/>
  <dc:language>en-US</dc:language>
  <cp:lastModifiedBy>Susan Beers</cp:lastModifiedBy>
  <dcterms:modified xsi:type="dcterms:W3CDTF">2009-03-12T12:39:52Z</dcterms:modified>
  <cp:revision>12</cp:revision>
  <dc:subject/>
  <dc:title>sun</dc:title>
</cp:coreProperties>
</file>